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545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C10-360C-4A6A-8266-A09FEA7C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2AA-6351-4B35-9814-BF478E6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F5B-24B5-43AA-81D0-630DDE24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3AD-3BC9-4053-9840-9C3F8DE5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620-7DEC-4DFE-BA1F-F0A5E96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D1F-E66E-43F6-BF70-B0F940C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B8C-CDA5-4D51-843A-BAA7D74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E7A-D29B-44B2-98E1-0B87B43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C7C-766F-4335-84A5-7DAD4F64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DCF-219F-4E25-9669-D8D1C6D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71D-FE4F-4389-938F-8B61A76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545-1DE7-407B-B873-C48E67C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irconférences tangentes</a:t>
            </a:r>
            <a:br>
              <a:rPr sz="14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ayon donné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r un cercle de centre O et de rayon R = 2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3623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acer une // à xy à une distance égale à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3809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r une circonférence de rayon OC = R +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767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point d’intersection I est le centre de la circonférence tang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648320"/>
            <a:ext cx="3505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r la circonférence tangent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266688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00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onférence tangente à 1 droite et 1 circonfé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5715000"/>
            <a:ext cx="403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9760" y="5819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67480" y="5827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0574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40480" y="175248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0120" y="3200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34290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3276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7339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droite OI détermine le point de raccordement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148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acer la perpendiculaire à xy passant par I , elle coupe xy en L qui est le 2 ème point de raccord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rccirconf-droiterayondonne1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19206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11:53:51Z</dcterms:created>
  <dc:creator>TG</dc:creator>
  <dc:description/>
  <dc:language>en-US</dc:language>
  <cp:lastModifiedBy>TG</cp:lastModifiedBy>
  <dcterms:modified xsi:type="dcterms:W3CDTF">2000-10-15T16:29:24Z</dcterms:modified>
  <cp:revision>32</cp:revision>
  <dc:subject/>
  <dc:title>Tangente 2 ciconférences extérieures</dc:title>
</cp:coreProperties>
</file>