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D32-70B2-4B6A-8D36-3F434DD7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B36-A055-4B2D-AAFF-F76BA3A0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0299-301E-42E3-8777-58EE3649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FE1-102C-43AA-9C0F-D90FEACB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E1F-9E5E-4C0E-B0AE-90EDAABC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26B-2C70-45AE-8754-A25C258A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586-85C0-49C6-8538-35482F5B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B742-6209-4344-8937-F9F854BF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732-C2FB-4E95-BDDC-6080D932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489-4399-4564-AACE-BB7EA5D1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CDC-527A-44CC-8422-B1B5A16D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8D4-E537-4B29-AF79-36FB96F7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5192-32DB-4A8F-90F3-282A5DF55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57200"/>
            <a:ext cx="685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Comic Sans MS"/>
              </a:rPr>
              <a:t>Trémie de raccord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19588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228600"/>
            <a:ext cx="762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ette trémie est intégrée au dispositif d’une chaudière à granulés de bois, pour le chauffage d’une maison d’habitation particuliè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6172200" cy="411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19520" y="4495680"/>
            <a:ext cx="7617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0" y="32004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émie étudi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86600" y="3581280"/>
            <a:ext cx="1614600" cy="1359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585144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n rôle est d’assurer le raccordement entre la vis d’extraction sous silo, et la vis d’alimentation du fo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80880" y="1523880"/>
            <a:ext cx="6172200" cy="4110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3124080" y="3429000"/>
            <a:ext cx="3733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228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rincipe de fonctionnement d’une chaudière à granulés de b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638680" cy="3755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09480"/>
            <a:ext cx="660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Les granulés de bois sont stockés en sil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9144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 Le convoyage, du silo jusqu’au foyer, est assuré automatiquement par 2 vis sans fin. La liaison entre les 2 vis se fait par le biais de la trémie d’adapta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5238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 Les granulés de bois sont brûlés dans le foy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82880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 La chaleur est récupérée pour chauffer l’eau du réseau. (Chauffage et production d’eau chau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438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 Les cendres sont extraites et évacu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ilo de stockage des granul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380988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724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Vis sans f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0292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3341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181480"/>
            <a:ext cx="2666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5486400"/>
            <a:ext cx="3581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297180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Trémie d’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114800" y="3505320"/>
            <a:ext cx="3808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63244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Fo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486040" y="5562720"/>
            <a:ext cx="2133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Eau cha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553080" y="38862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6521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Extraction des cend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276720" y="6095880"/>
            <a:ext cx="1523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4572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Comic Sans MS"/>
              </a:rPr>
              <a:t>Procédé écologique et économiq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nt"/>
          <p:cNvSpPr/>
          <p:nvPr/>
        </p:nvSpPr>
        <p:spPr>
          <a:xfrm>
            <a:off x="1981080" y="2286000"/>
            <a:ext cx="4724640" cy="3809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228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onstitution de la trémie d’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900240" cy="3284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280" y="7621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olette et anneau d’alimentation par manchette souple (raccordement sur vis s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16002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ot fi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34290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ps de tré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55627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e de sortie (raccordement sur vis foy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137160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638680" y="1828800"/>
            <a:ext cx="10670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486040" y="365760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590920" y="48769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190512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Ce produit peut être fabriqué en série, ou bien conçu à la demande suivant la configuration du site d’install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09:26:05Z</dcterms:created>
  <dc:creator>Olivier</dc:creator>
  <dc:description/>
  <dc:language>en-US</dc:language>
  <cp:lastModifiedBy>Olivier</cp:lastModifiedBy>
  <dcterms:modified xsi:type="dcterms:W3CDTF">2008-08-30T16:06:56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