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021-C02E-4C89-9A35-B234F34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F29-13A2-481D-AE42-967FDFF2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55B-BED7-41E3-8BA7-1DB2671C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7CD-4E1A-4D3C-B5B2-69B356BF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B80-CC6C-434D-9F27-B52CAEE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1A6-BF31-4807-9B48-FB72CC5D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9ED-7E6B-4C98-98EB-5EC6D9D1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688-8C31-4D23-AA1C-F6E9AB6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727-A79E-4231-BA6F-DCE27C2A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B63-AD67-458A-9DF1-9697601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7A1-50FD-4A48-8EDE-8204BA8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5FA-FB20-485D-991F-E57BD359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8C82-867E-4D4E-AA6E-62C885F53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Trémie de raccor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1958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tte trémie est intégrée au dispositif d’une chaudière à granulés de bois, pour le chauffage d’une maison d’habitation particuliè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4495680"/>
            <a:ext cx="761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32004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émie étud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614600" cy="1359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585144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n rôle est d’assurer le raccordement entre la vis d’extraction sous silo, et la vis d’alimentation du f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6172200" cy="4110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3124080" y="3429000"/>
            <a:ext cx="3733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e de fonctionnement d’une chaudière à granulés de b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638680" cy="375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660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Les granulés de bois sont stockés en sil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14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 Le convoyage, du silo jusqu’au foyer, est assuré automatiquement par 2 vis sans fin. La liaison entre les 2 vis se fait par le biais de la trémie d’adapt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238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 Les granulés de bois sont brûlés dans le fo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288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 La chaleur est récupérée pour chauffer l’eau du réseau. (Chauffage et production d’eau chau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38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 Les cendres sont extraites et évacu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ilo de stockage des granul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38098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Vis sans 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0292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341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18148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486400"/>
            <a:ext cx="3581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29718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Trémie d’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800" y="35053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6324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Fo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486040" y="55627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au cha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5308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6521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rial"/>
              </a:rPr>
              <a:t>Extraction des cend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276720" y="60958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457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Procédé écologique et économ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nt"/>
          <p:cNvSpPr/>
          <p:nvPr/>
        </p:nvSpPr>
        <p:spPr>
          <a:xfrm>
            <a:off x="1981080" y="2286000"/>
            <a:ext cx="4724640" cy="3809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stitution de la trémie d’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00240" cy="32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7621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olette et anneau d’alimentation par manchette souple (raccordement sur vis s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ot fi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4290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ps de tré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5627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e de sortie (raccordement sur vis foy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371600"/>
            <a:ext cx="914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38680" y="182880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486040" y="36576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8769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1905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Ce produit peut être fabriqué en série, ou bien conçu à la demande suivant la configuration du site d’install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09:26:05Z</dcterms:created>
  <dc:creator>Olivier</dc:creator>
  <dc:description/>
  <dc:language>en-US</dc:language>
  <cp:lastModifiedBy>Olivier</cp:lastModifiedBy>
  <dcterms:modified xsi:type="dcterms:W3CDTF">2008-08-30T16:06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