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A58-1D8C-4F08-8EBD-23B38B33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1D1-AB1D-4C94-90A3-A6F483A2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69B-A312-41B5-B9C2-9B46B0A4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BF2-997E-47DD-AE04-C62106DC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AE0-53D4-4583-9406-F918B588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A44-F5EF-452B-B31C-5755445E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D6E-3046-412A-823B-D18EB05A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B5D-3F8B-4D63-8F9F-3E349736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C59-170F-49CB-9C23-434A177E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B05-39E7-4620-B50F-E4FEC47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448-5A8D-4DA3-A3B3-3B6B5FC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EFA-2A26-472B-A249-499943A5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E8D5-4D36-4DBD-ABA0-011FBF303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Comic Sans MS"/>
              </a:rPr>
              <a:t>Trémie de raccor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1958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2860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tte trémie est intégrée au dispositif d’une chaudière à granulés de bois, pour le chauffage d’une maison d’habitation particuliè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6172200" cy="411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19520" y="4495680"/>
            <a:ext cx="7617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3200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émie étudi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614600" cy="135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585144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 rôle est d’assurer le raccordement entre la vis d’extraction sous silo, et la vis d’alimentation du fo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6172200" cy="411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3124080" y="3429000"/>
            <a:ext cx="3733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e de fonctionnement d’une chaudière à granulés de b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638680" cy="375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480"/>
            <a:ext cx="660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Les granulés de bois sont stockés en sil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14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 Le convoyage, du silo jusqu’au foyer, est assuré automatiquement par 2 vis sans fin. La liaison entre les 2 vis se fait par le biais de la trémie d’adapta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238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 Les granulés de bois sont brûlés dans le fo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2880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 La chaleur est récupérée pour chauffer l’eau du réseau. (Chauffage et production d’eau chau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38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 Les cendres sont extraites et évacu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ilo de stockage des granul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80988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Vis sans 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0292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334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181480"/>
            <a:ext cx="2666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486400"/>
            <a:ext cx="3581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29718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Trémie d’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14800" y="35053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63244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Fo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486040" y="556272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au cha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53080" y="3886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6521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Extraction des cend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276720" y="60958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457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Procédé écologique et économi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nt"/>
          <p:cNvSpPr/>
          <p:nvPr/>
        </p:nvSpPr>
        <p:spPr>
          <a:xfrm>
            <a:off x="1981080" y="2286000"/>
            <a:ext cx="4724640" cy="3809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stitution de la trémie d’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00240" cy="328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762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olette et anneau d’alimentation par manchette souple (raccordement sur vis s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6002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ot fi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4290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ps de tré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5627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e de sortie (raccordement sur vis foy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137160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638680" y="182880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486040" y="36576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90920" y="48769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1905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Ce produit peut être fabriqué en série, ou bien conçu à la demande suivant la configuration du site d’instal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09:26:05Z</dcterms:created>
  <dc:creator>Olivier</dc:creator>
  <dc:description/>
  <dc:language>en-US</dc:language>
  <cp:lastModifiedBy>Olivier</cp:lastModifiedBy>
  <dcterms:modified xsi:type="dcterms:W3CDTF">2008-08-30T16:06:5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