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5A3-55D9-4880-AC7F-EF975E5B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6D1-1DE2-4AED-A949-51C2F00C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47A-DF39-450E-A754-E0B5EA65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AD5-46F8-4B8D-BE16-09A5EB89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618-6FB5-403B-9EA2-7EF297CF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2C6-2B11-4FFF-A5CF-F375AB28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C6C-2BDF-4AA5-A421-A7A25B22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A41-FE76-473D-8C0C-B12D97AD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CA2-F30C-479E-B458-8A31F8CF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F08-6540-4B49-A143-0EA53718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A95-B67E-4264-86D8-CB229B09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4EE6-F6AF-46D6-A58C-6B05AB78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E45E-7A93-4403-A0BB-8E9EFB3B6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5720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Comic Sans MS"/>
              </a:rPr>
              <a:t>Trémie de raccord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19588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2860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ette trémie est intégrée au dispositif d’une chaudière à granulés de bois, pour le chauffage d’une maison d’habitation particuliè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6172200" cy="411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19520" y="4495680"/>
            <a:ext cx="7617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0" y="32004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émie étudi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86600" y="3581280"/>
            <a:ext cx="1614600" cy="1359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585144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n rôle est d’assurer le raccordement entre la vis d’extraction sous silo, et la vis d’alimentation du fo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80880" y="1523880"/>
            <a:ext cx="6172200" cy="4110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3124080" y="3429000"/>
            <a:ext cx="3733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incipe de fonctionnement d’une chaudière à granulés de b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638680" cy="3755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09480"/>
            <a:ext cx="660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Les granulés de bois sont stockés en sil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9144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 Le convoyage, du silo jusqu’au foyer, est assuré automatiquement par 2 vis sans fin. La liaison entre les 2 vis se fait par le biais de la trémie d’adapta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238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 Les granulés de bois sont brûlés dans le fo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2880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 La chaleur est récupérée pour chauffer l’eau du réseau. (Chauffage et production d’eau chau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38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 Les cendres sont extraites et évacu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ilo de stockage des granul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380988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Vis sans 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0292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3341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181480"/>
            <a:ext cx="2666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5486400"/>
            <a:ext cx="3581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29718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Trémie d’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114800" y="3505320"/>
            <a:ext cx="3808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63244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Fo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486040" y="556272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Eau cha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553080" y="38862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6521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Extraction des cend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276720" y="6095880"/>
            <a:ext cx="1523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457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Comic Sans MS"/>
              </a:rPr>
              <a:t>Procédé écologique et économiq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nt"/>
          <p:cNvSpPr/>
          <p:nvPr/>
        </p:nvSpPr>
        <p:spPr>
          <a:xfrm>
            <a:off x="1981080" y="2286000"/>
            <a:ext cx="4724640" cy="3809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nstitution de la trémie d’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00240" cy="3284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762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olette et anneau d’alimentation par manchette souple (raccordement sur vis s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6002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ot fi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34290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ps de tré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5627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e de sortie (raccordement sur vis foy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137160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638680" y="1828800"/>
            <a:ext cx="10670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486040" y="36576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590920" y="48769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1905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Ce produit peut être fabriqué en série, ou bien conçu à la demande suivant la configuration du site d’install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09:26:05Z</dcterms:created>
  <dc:creator>Olivier</dc:creator>
  <dc:description/>
  <dc:language>en-US</dc:language>
  <cp:lastModifiedBy>Olivier</cp:lastModifiedBy>
  <dcterms:modified xsi:type="dcterms:W3CDTF">2008-08-30T16:06:5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