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358-F51C-4276-813E-9C3A2AF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AE0-D143-469F-A1A2-AC2618F5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F33-0A4A-45FB-B591-10FD975C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987-4E8D-4228-BA72-30D82BD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627-982A-4E87-937B-41D14CC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E3E-7BAF-49C3-90B8-4C1A7B98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DE4-7ADB-4248-A6F0-9AF8B4C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15E-EC4E-407A-98F1-5994A7B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C10-3BD7-4299-B0AE-9365F816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C0F-A31B-4704-8739-0AAC110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EAC-B2D0-4C83-9490-94050F3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330-11BD-4683-959E-60C3E5C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F80-66EE-4FA2-BEAF-B9D9948DF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38280" y="-5181480"/>
          <a:ext cx="8026560" cy="1135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-5181480"/>
                    <a:ext cx="8026560" cy="113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1523880"/>
            <a:ext cx="4572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Élément de cond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d’élévateur à god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2840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22860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Qu’est-ce qu’un élévateur à god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590920"/>
            <a:ext cx="5410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’est un ouvrage chaudronné qui permet la manutention de produits en vrac (sous forme de poudres, de granulés,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e produit est chargé en pied, puis acheminé en tête à l’aide de godets fixés sur une sangle qui tou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es éléments de conduit se déclinent en différentes hauteurs, afin d’adapter l’élévateur à la configuration de l’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676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tê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80880" y="8380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î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80880" y="44956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581280" y="17521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143000" y="685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7480" y="3092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it de mon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800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2012760" y="3244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it de d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3228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4120" y="342900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otre étude se porte sur un élément de conduit d’un élévateur à godets d’une usine de fabrication de granulés pour l’alimentation anim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440" y="1066680"/>
            <a:ext cx="1523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133720"/>
            <a:ext cx="3049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867280" y="-2895480"/>
          <a:ext cx="4094280" cy="57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-2895480"/>
                    <a:ext cx="40942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572000" y="685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Comic Sans MS"/>
              </a:rPr>
              <a:t>Élément étud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omic Sans MS"/>
              </a:rPr>
              <a:t>Quelques caractéristiqu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838080"/>
            <a:ext cx="647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ête et pied 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acier peint, trappe d’accè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mbour à cage d’écureuil auto-nettoy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 palier app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duits 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acier galvanisé,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nneau arrière démontable et entretois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aison auto-aligneur, réglag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tension de la courro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MENTATIO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rée carré 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alimentation sur brin mon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TESSE DE ROTATIO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ard : 2.35 m/s et lente : 1.17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ORISATIO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5 kW (2 c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RAINEMEN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toréduc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ODET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 10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gle caoutchouc avec 8 godets/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e et vis à arbre c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UT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6 à 12 m – voir vig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OIRE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Boite de sortie 2, 3 ou 4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Sortie re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511440" cy="569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581280" y="1219320"/>
          <a:ext cx="5257800" cy="418464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au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U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5.7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.84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6.58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5.7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7.65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.77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9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8.5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7.64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9.58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.7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0.45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.57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1.5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0.64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447920" y="-2971800"/>
          <a:ext cx="657216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-2971800"/>
                    <a:ext cx="657216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212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algun Gothic"/>
              </a:rPr>
              <a:t>Comment est constitué notre élément de cond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8288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e en plat30X3 (reprise élément supéri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562720" y="2057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4864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e en plat30X3 (reprise élément inféri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714640" y="55623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743200"/>
            <a:ext cx="266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e en plat 30X3 (reprise sonde pour connaître le taux d’humidité du prod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29718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429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s en tôle pliée ep1.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562720" y="36576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343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quage tôle pliée ep1.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647960" y="4038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952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usset renfort ep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66880" y="4647960"/>
            <a:ext cx="1676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71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ation câble de sécurité de la sonde d’hum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16002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Comment va-t-on fabriquer les différents repè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371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Les plats de br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2361960" cy="1781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2286000"/>
            <a:ext cx="1524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bit à la scie à ru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0574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çage à la perceuse à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38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Le corps et le piq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952880"/>
            <a:ext cx="1523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00"/>
                </a:solidFill>
                <a:uFillTx/>
                <a:latin typeface="Comic Sans MS"/>
              </a:rPr>
              <a:t>Débit avec quelle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2133720" cy="160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43400" y="44956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iage à la plieuse universelle ou à la presse plieuse tradi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57200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304920"/>
            <a:ext cx="44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r que l’ouverture dans un des éléments du corps sera réalisée au découpage plasma 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1905120" cy="157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Fixation câble de sécurité de la sonde d’humidit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8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bit à la scie à ru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2362320" cy="178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çage à la perceuse à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58000" y="22860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6360" y="48006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Gousset renf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25780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257800"/>
            <a:ext cx="1523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00"/>
                </a:solidFill>
                <a:uFillTx/>
                <a:latin typeface="Comic Sans MS"/>
              </a:rPr>
              <a:t>Débit avec quelle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9528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7440" y="3049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ssembl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90720"/>
            <a:ext cx="44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assemblages seront réalisés avec le procédé 135 (soudage M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1730160" cy="2210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38098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Voir les plans de fabrication et autres documents de pré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17:57Z</dcterms:created>
  <dc:creator>Olivier</dc:creator>
  <dc:description/>
  <dc:language>en-US</dc:language>
  <cp:lastModifiedBy>Olivier</cp:lastModifiedBy>
  <dcterms:modified xsi:type="dcterms:W3CDTF">2008-08-27T07:32:3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